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11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4667A-44D4-41B0-A163-E29A3185D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7289E-0200-4444-937B-973EDBAC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692E7-DCBA-4D5D-8395-F0C1DDE24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5A626-9A22-4480-ABAE-8B845C479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45BB-9F3B-47AF-BEEF-D49CF09AF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A6A3-E2CB-4BB0-B9A3-61B8ED10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40A9D-E2A4-4EFC-AD70-E5E705A2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AE73-3519-47A3-8793-F89C45A1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5CD9-86EC-4D5D-9B7C-7F0B70AC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54CD-9BFD-43CE-A920-A7DF0017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E258-CE85-4B9A-9D0F-2542C9A0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D93C8-A59F-4AC2-9884-C1393CF4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3994-B611-4B32-902E-1A90C6D6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BBC4-0754-4CBD-82F2-0973344B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EBB4-ACBA-4378-95E0-F23FAC40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A583-EB22-472A-B6F8-BDF44A3A8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6D77-893A-4DEA-8634-E8EFF1EB7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D299F-A734-4C48-B7A6-426B11ED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FC73E-904B-4544-9B4C-9946A1E9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E645E-4F60-4B3B-B022-C61B1A56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8BCDA-FEF0-4BAB-8845-EA10A57D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14AB1-013A-4FE7-B83D-C7DD71E7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BD022-34D0-436E-AAC4-DFF6DA85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07F23-2BBF-4DB4-9872-EC545679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6278-91EE-4E52-836C-5C8309F2B5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F522-B392-481F-85FD-DE1CB7DFBD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352680" y="3809880"/>
            <a:ext cx="25527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Hayden Caleb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743200" y="1447920"/>
            <a:ext cx="373392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ll About Me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4572000" y="3352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I’m good at….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Footba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Baseba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Trac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352680" y="1295280"/>
            <a:ext cx="3353040" cy="2133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2441520" cy="1630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876920" y="4114800"/>
            <a:ext cx="2971800" cy="22096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My favorite websi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23isback.co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Nike.co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NFL.co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90720" y="4114800"/>
            <a:ext cx="1352520" cy="8240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62120" y="2057400"/>
            <a:ext cx="1523880" cy="1295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914400" y="5638680"/>
            <a:ext cx="1428840" cy="952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My Favorite Foo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Hot Wing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izz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Crunchwrap Supre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95880" y="1371600"/>
            <a:ext cx="2819520" cy="1733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248520" y="3733920"/>
            <a:ext cx="2400120" cy="1819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048120" y="1676520"/>
            <a:ext cx="2498760" cy="1981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My Favorite Teach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Ms. Hudna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Ms. Web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Ms. Guill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5000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If I Could I Would Have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A Billion dolla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86000" y="2666880"/>
            <a:ext cx="3505320" cy="2590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In 10 Years I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I want the best job I can get so that I don’t have to depend on anyone el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5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My Favorite Athletes are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Steve Smit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Marion Barb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Ladainian Tomlins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Vince Young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Sean Taylo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Ken Griffey j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324480" y="1219320"/>
            <a:ext cx="1447920" cy="1600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743200" y="1219320"/>
            <a:ext cx="1595520" cy="1828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666880" y="3657600"/>
            <a:ext cx="2286000" cy="2933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4419720" y="1066680"/>
            <a:ext cx="1600200" cy="2438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5029200" y="4419720"/>
            <a:ext cx="3086280" cy="2136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6172200" y="2971800"/>
            <a:ext cx="1981080" cy="13208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743200" y="2286000"/>
            <a:ext cx="3429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The End</a:t>
            </a:r>
            <a:endParaRPr b="0" lang="en-US" sz="6000" spc="1" strike="noStrike">
              <a:ln w="9360">
                <a:solidFill>
                  <a:srgbClr val="0000ff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5000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5:50:01Z</dcterms:created>
  <dc:creator>771009</dc:creator>
  <dc:description/>
  <dc:language>en-US</dc:language>
  <cp:lastModifiedBy>771009</cp:lastModifiedBy>
  <dcterms:modified xsi:type="dcterms:W3CDTF">2008-10-31T15:21:57Z</dcterms:modified>
  <cp:revision>14</cp:revision>
  <dc:subject/>
  <dc:title>Hayden Caleb</dc:title>
</cp:coreProperties>
</file>